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C1B-0E66-440C-A688-B303A39D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D57-A4C4-44F2-A8B3-AE2D9E27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9C2-B291-4537-B756-78EEB487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39EF-17C2-4D3D-A61C-524808B4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A85D-2289-420E-BCBA-68832B72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3312-8827-4D3B-9481-AB5177A1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5EFD-04FA-4203-9A3F-17FE184B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30BB-0014-4D1A-9F4A-B903B126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7FA2-9F39-4D5E-B77F-C80DDC0A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0DB4-FA45-42B7-9A2C-923848BE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3F69-D7F1-4673-82DF-D1530263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4B9-9C44-4490-893C-9B8D6CC1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7FB7-9186-4B1A-96D6-85BA3A88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018C-DF64-4474-ABEB-6DE91F0F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7D11-3281-4F18-A9E5-1F98816D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F170-F6C7-40DC-80BB-C5CB2EB6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9539-354A-45C8-812A-223065D9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B749-7BF7-4A1F-BC73-F1E0F358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A60-2B56-4F15-84F6-EE664E7B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704-72DD-4B8B-BF34-DBEF4A5B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E19-7CF1-4D91-85D9-B30062DA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879-5107-4354-88CE-4A010D80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E16-075C-4961-A8F4-F63FA011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9D4-3A18-4932-B3FE-78ADC5CC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D8A4-76C0-4937-8DE8-70B389C166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39BE-BD37-4250-B7FC-576A1AFFDC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IOP</a:t>
            </a: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February 16, 2007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azing Aspen Sa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harismatic Kim F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rcastic Scott E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jectiv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engage in practice with the three features of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rehensible 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omponent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discuss the importanc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rehensible 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prehensible Inpu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ch appropri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tudents’ proficiency lev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ear expla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ademic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ety of techn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ake content concepts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ppropriate Spee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xpression and body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 slowly and cle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jargon and idiomatic speech as much a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ore pauses between phr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horter sentences with simpler synta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pportive learning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ear Explanation of Task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structions in a step-by-step manner and/or with demonst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oral directions on 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students to re-ex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eer mod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nd restate concepts to clarify meaning when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ariety of Techniqu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/Think-Alo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s and/or Re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s-on and Performance-Base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hysical Response (TP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ures/Body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ve Learn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yles and Multiple Intellig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ariety of Techniques—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xt Adapt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 or underline key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d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ed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d outline or cloze no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materials (consider using Lexile lev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siting the Obj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engage in practice with the three features of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rehensi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omponent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discuss the importanc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rehensible 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21:53:14Z</dcterms:created>
  <dc:creator>annramirez</dc:creator>
  <dc:description/>
  <dc:language>en-US</dc:language>
  <cp:lastModifiedBy>asanders1</cp:lastModifiedBy>
  <dcterms:modified xsi:type="dcterms:W3CDTF">2007-02-12T17:42:24Z</dcterms:modified>
  <cp:revision>57</cp:revision>
  <dc:subject/>
  <dc:title>District #6 SIOP Trainer of Trainers </dc:title>
</cp:coreProperties>
</file>